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105-9541-4469-817D-1A1B4519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0256-E8F1-4301-AD59-96569D5B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BB79-1F05-45B9-9641-AAE66CF4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F2DD-F212-4347-8A85-D17F2DE8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0AD9-3C85-46FC-9D01-EE9229D7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CBC-0F8C-4E83-8020-65DB7709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056-EE98-4B4E-ADE7-AB072F84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D89-98F6-4545-A978-EE0FD437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01C-C494-4D1B-975A-9A002E66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DB76-6818-4C82-8A23-70DA5C49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2FD-6B07-49FE-AA84-D1D69C0DB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6AC-76AC-4107-8E38-7791DB5FC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AF0-B6E7-4C11-9552-B5EE9FE0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3ED-C67B-495E-8D66-602D62F8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FF7-658D-47A4-A6FC-E65B78F32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359-13C8-46B7-AFD5-7A3D5F5F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CE8-4EF4-473B-8920-E5B4CE6C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DDF6-0AD4-4EB2-BCED-4524503C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A42-B6E7-4F00-99FB-58579397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13E-46B0-49C7-BD64-F1F238D0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6DC-D123-4432-993F-785A52010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DDDF-1909-465A-A193-0F8B822A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A63-70A3-4E6E-8506-5D1BCCF2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231-6A9B-40D9-8B74-AA89B9D6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CBC-6531-4EC5-A9A9-A2842865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CD5F-9A39-436A-969A-39F3B81BC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EFC-AD7E-4298-B648-8950E4309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C0ED-1F01-49A9-A745-CFC3D33C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8974-12BF-48C3-8BE0-56FA3B8C5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989B-07A7-42A7-A3F3-38ABE8E4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3B11-FAA4-4BAC-BBEC-3BBD8757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2EB-DD31-41A1-B2C5-6A7EA0779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47EC-FDC0-4D0D-8D66-959174F37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8FE-153C-4742-8224-63B2CF9BC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2E4C-B131-4E40-816E-B07E4B0C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649-0D97-4451-B109-4B896400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053E-DC0E-4907-BE08-0B1D03FD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3FD2-D6B8-4EE2-B96A-227A3546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CB13-F3DB-4348-9C4F-78760348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F22-FF24-4CB9-B1D0-DDE7036A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13B0-61BD-42CF-BDD0-0E8952B4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268-1BA3-4240-BE7D-D7FC9A01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737-CE74-4923-B6E0-047CD634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A32-2048-464B-9740-5A8802760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717-D936-4FB7-96DA-256F271DD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4271-1B98-406F-A4D7-9500524D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CEBD-09A0-45E5-AFF4-4A8D3DCAC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2763-4775-4F85-90A4-FF96350E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CC5-2732-4328-A357-CEDD2549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8558-8E57-45C0-BE7D-3C898283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0A55-CFB4-4305-BD5D-09996034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148-8F7E-4A10-B9D6-BCB3739C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30B-88C1-440D-A6E5-3F1B1828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894-18C9-4F2A-A81B-B0FD620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92C-334D-42B2-9FAF-993B0DEB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4F9-DDAF-412A-94C0-1609DDAD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727-0E58-4139-BABE-1FB287D0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2A6-D9B6-41E8-935D-9A3888B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A45-00FC-45AF-8E03-B0FEEF1E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02B-620F-45F2-98B8-A88B0EC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6E8-BA9C-42CF-934F-53A35CD1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E12-EF6B-4EE9-A1A5-B2A32B56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999-F3F1-4912-A125-34E677A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41F-E529-4571-9704-6527E5F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CF0-6DF1-4441-B2F2-8DB74C2F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h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v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stories he laid the foundatio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etective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herlock Hol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d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oderick &amp; Madeline U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 narrator does with Usher to cheer him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painting, reading, writing, listening to mus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ctivities turn negative th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the title fits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house that the Ushers own f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name fell – no more U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narrator knows U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y were childhood friends – Usher sends the narrator a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wthorne’s most famous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the sister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catalepsy – the victim loses sensation and the ability to move the limbs or entir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nd the narrator 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tapping at 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h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mood or feeling created in a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bird, so the narrator th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use of the shift of feeling from the narrator to the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en the narrator says he’ll see “Lenore,” the raven says, “Nevermore.” The narrator thinks the bird means he’ll never see Lenor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carle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the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ve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ove of Le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mental in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veil come off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ces he wears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funeral and a we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cret s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thers feel he wears the v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y think he has a secret s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had something to do with the little girl from the funeral. One lady saw her body shudder &amp; saw their spirits walking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of Poe’s 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Elizabeth’s views of the veil change throughout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nister’s Black Vei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t first she hates it &amp; wouldn’t marry him. At the end she is the one who tells the others to leave it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why Ahab wants to kill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venge – Moby took his l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ard for spotting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gold o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ation of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ig, mean, dented brow, harpoon holes, intelligent malignity, t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M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ev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everything bad is blamed on him p. 3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immortal p. 3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iquitous p. 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t malignity p. 3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ather was a drunk &amp;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her died when he was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parents would never adop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father remarried &amp; wouldn’t give him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crew decides to join Ahab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tion even though some (like Starbuck) are against it to star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by-D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solation has made them all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fear being called out for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haniel Hawtho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is ancestor was a judge in the Salem Witch Trials. He changed his name from Hathorne to Hawthorne so he wouldn’t be associated to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an Melv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he got his ideas for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an Melv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from his personal experiences at 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other sea wri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3:28Z</dcterms:created>
  <dc:creator>Grant County High School</dc:creator>
  <dc:description/>
  <dc:language>en-US</dc:language>
  <cp:lastModifiedBy>ACSD</cp:lastModifiedBy>
  <dcterms:modified xsi:type="dcterms:W3CDTF">2010-10-27T23:57:06Z</dcterms:modified>
  <cp:revision>50</cp:revision>
  <dc:subject/>
  <dc:title>No Slide Title</dc:title>
</cp:coreProperties>
</file>